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E161C-1097-43DE-801D-FE5E6E6A9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6059A-E6B4-402B-83BC-ED05A93F5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3683C-06E0-451A-B796-20C6601F5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FDD75-3729-434C-94B5-B1784AAFE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5BB0E-C9BF-413C-A247-D3C0D0190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0F5C0-F391-46A1-A866-F81D08243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5FFD7-DD01-4A60-944D-EE7ECEED5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9B66B-483C-43BD-BA1D-26849C744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72F45-5E65-4AA1-B50C-05F2AF80F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D1EFD-72DF-47C0-A9ED-97D322399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66D3-E015-4180-933D-95D057EC7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C485-EB37-4A74-8073-485700205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76B1-5732-4985-AAFE-8A99D5874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au/imgres?imgurl=http://flagsandanthems.com/media/flags/flag-eureka-stockade.gif&amp;imgrefurl=http://flagsandanthems.com/historical/flag-eureka-stockade.html&amp;usg=__GPkhGDU4vDBYHY2E9h8ny3ZnD8U=&amp;h=325&amp;w=500&amp;sz=12&amp;hl=en&amp;start=1&amp;um=1&amp;itbs=1&amp;tbnid=MG5fxHjd81PlJM:&amp;tbnh=85&amp;tbnw=130&amp;prev=/images%3Fq%3Deureka%2Bstockade%2Bflag%26um%3D1%26hl%3Den%26safe%3Dactive%26tbs%3Disch:1"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google.com.au/imgres?imgurl=http://www.diggerhistory.info/images/asstd2/19-12rof.jpg&amp;imgrefurl=http://www.diggerhistory.info/pages-conflicts-periods/other/eureka.htm&amp;usg=__EbBGx3-nl0CYLPY3cfp2A2tEfmA=&amp;h=631&amp;w=290&amp;sz=17&amp;hl=en&amp;start=5&amp;um=1&amp;itbs=1&amp;tbnid=7sJAPssGkhT27M:&amp;tbnh=137&amp;tbnw=63&amp;prev=/images%3Fq%3Dtroopers%2Bon%2Bthe%2Bgoldfields%26um%3D1%26hl%3Den%26safe%3Dactive%26tbs%3Disch: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04920" y="3352320"/>
            <a:ext cx="8610480" cy="2210040"/>
          </a:xfrm>
          <a:prstGeom prst="rect">
            <a:avLst/>
          </a:prstGeom>
          <a:noFill/>
          <a:ln w="0">
            <a:noFill/>
          </a:ln>
        </p:spPr>
        <p:txBody>
          <a:bodyPr lIns="90000" rIns="90000" tIns="46800" bIns="46800"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Arial"/>
              </a:rPr>
              <a:t>By Tristan Valino</a:t>
            </a:r>
            <a:endParaRPr b="0" lang="en-US" sz="6600" spc="-1" strike="noStrike">
              <a:solidFill>
                <a:srgbClr val="000000"/>
              </a:solidFill>
              <a:latin typeface="Arial"/>
            </a:endParaRPr>
          </a:p>
        </p:txBody>
      </p:sp>
      <p:pic>
        <p:nvPicPr>
          <p:cNvPr id="42" name="" descr="">
            <a:hlinkClick r:id="rId1"/>
          </p:cNvPr>
          <p:cNvPicPr/>
          <p:nvPr/>
        </p:nvPicPr>
        <p:blipFill>
          <a:blip r:embed="rId2"/>
          <a:stretch/>
        </p:blipFill>
        <p:spPr>
          <a:xfrm>
            <a:off x="1981080" y="990720"/>
            <a:ext cx="1238400" cy="809640"/>
          </a:xfrm>
          <a:prstGeom prst="rect">
            <a:avLst/>
          </a:prstGeom>
          <a:ln w="0">
            <a:noFill/>
          </a:ln>
        </p:spPr>
      </p:pic>
      <p:pic>
        <p:nvPicPr>
          <p:cNvPr id="43" name="" descr=""/>
          <p:cNvPicPr/>
          <p:nvPr/>
        </p:nvPicPr>
        <p:blipFill>
          <a:blip r:embed="rId3"/>
          <a:stretch/>
        </p:blipFill>
        <p:spPr>
          <a:xfrm>
            <a:off x="6248520" y="990720"/>
            <a:ext cx="1238040" cy="809640"/>
          </a:xfrm>
          <a:prstGeom prst="rect">
            <a:avLst/>
          </a:prstGeom>
          <a:ln w="0">
            <a:noFill/>
          </a:ln>
        </p:spPr>
      </p:pic>
      <p:sp>
        <p:nvSpPr>
          <p:cNvPr id="44" name=""/>
          <p:cNvSpPr txBox="1"/>
          <p:nvPr/>
        </p:nvSpPr>
        <p:spPr>
          <a:xfrm>
            <a:off x="3886200" y="914400"/>
            <a:ext cx="1752480" cy="838080"/>
          </a:xfrm>
          <a:prstGeom prst="rect">
            <a:avLst/>
          </a:prstGeom>
        </p:spPr>
        <p:txBody>
          <a:bodyPr wrap="none" lIns="90000" rIns="90000" tIns="46800" bIns="46800" anchor="t" anchorCtr="1">
            <a:prstTxWarp prst="textPlain">
              <a:avLst>
                <a:gd name="adj" fmla="val 502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ae3b7"/>
                    </a:gs>
                    <a:gs pos="50000">
                      <a:srgbClr val="fbe4ae"/>
                    </a:gs>
                    <a:gs pos="100000">
                      <a:srgbClr val="fae3b7"/>
                    </a:gs>
                  </a:gsLst>
                  <a:lin ang="5400000"/>
                </a:gradFill>
                <a:effectLst>
                  <a:outerShdw dist="153753" dir="2700000" blurRad="0" rotWithShape="0">
                    <a:srgbClr val="c7dfd3">
                      <a:alpha val="80000"/>
                    </a:srgbClr>
                  </a:outerShdw>
                </a:effectLst>
                <a:latin typeface="Times New Roman"/>
              </a:rPr>
              <a:t>TRAPS</a:t>
            </a:r>
            <a:endParaRPr b="0" lang="en-US" sz="1800" spc="1" strike="noStrike">
              <a:ln w="9360">
                <a:solidFill>
                  <a:srgbClr val="000000"/>
                </a:solidFill>
                <a:miter/>
              </a:ln>
              <a:gradFill rotWithShape="0">
                <a:gsLst>
                  <a:gs pos="0">
                    <a:srgbClr val="fae3b7"/>
                  </a:gs>
                  <a:gs pos="50000">
                    <a:srgbClr val="fbe4ae"/>
                  </a:gs>
                  <a:gs pos="100000">
                    <a:srgbClr val="fae3b7"/>
                  </a:gs>
                </a:gsLst>
                <a:lin ang="5400000"/>
              </a:gra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re main missio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main mission was to make sure diggers are paying there ta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foot pol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09480" y="6095520"/>
            <a:ext cx="7925040" cy="762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for watching my project</a:t>
            </a:r>
            <a:endParaRPr b="0" lang="en-US" sz="4000" spc="-1" strike="noStrike">
              <a:solidFill>
                <a:srgbClr val="000000"/>
              </a:solidFill>
              <a:latin typeface="Arial"/>
            </a:endParaRPr>
          </a:p>
        </p:txBody>
      </p:sp>
      <p:sp>
        <p:nvSpPr>
          <p:cNvPr id="71" name=""/>
          <p:cNvSpPr/>
          <p:nvPr/>
        </p:nvSpPr>
        <p:spPr>
          <a:xfrm>
            <a:off x="838080" y="1752480"/>
            <a:ext cx="784872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ww.wikipedia.com</a:t>
            </a: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ttp://www.sbs.com.au </a:t>
            </a:r>
            <a:endParaRPr b="0" lang="en-US" sz="6000" spc="-1" strike="noStrike">
              <a:solidFill>
                <a:srgbClr val="000000"/>
              </a:solidFill>
              <a:latin typeface="Arial"/>
            </a:endParaRPr>
          </a:p>
        </p:txBody>
      </p:sp>
      <p:sp>
        <p:nvSpPr>
          <p:cNvPr id="72" name=""/>
          <p:cNvSpPr/>
          <p:nvPr/>
        </p:nvSpPr>
        <p:spPr>
          <a:xfrm>
            <a:off x="2743200" y="4572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OGRAPH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ings they 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f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ayone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Hor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n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nd lots 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676520" y="380880"/>
            <a:ext cx="714240" cy="714600"/>
          </a:xfrm>
          <a:prstGeom prst="rect">
            <a:avLst/>
          </a:prstGeom>
          <a:ln w="0">
            <a:noFill/>
          </a:ln>
        </p:spPr>
      </p:pic>
      <p:pic>
        <p:nvPicPr>
          <p:cNvPr id="48" name="" descr=""/>
          <p:cNvPicPr/>
          <p:nvPr/>
        </p:nvPicPr>
        <p:blipFill>
          <a:blip r:embed="rId2"/>
          <a:stretch/>
        </p:blipFill>
        <p:spPr>
          <a:xfrm>
            <a:off x="6705720" y="380880"/>
            <a:ext cx="714240" cy="714600"/>
          </a:xfrm>
          <a:prstGeom prst="rect">
            <a:avLst/>
          </a:prstGeom>
          <a:ln w="0">
            <a:noFill/>
          </a:ln>
        </p:spPr>
      </p:pic>
      <p:pic>
        <p:nvPicPr>
          <p:cNvPr id="49" name="" descr=""/>
          <p:cNvPicPr/>
          <p:nvPr/>
        </p:nvPicPr>
        <p:blipFill>
          <a:blip r:embed="rId3"/>
          <a:stretch/>
        </p:blipFill>
        <p:spPr>
          <a:xfrm>
            <a:off x="2895480" y="1143000"/>
            <a:ext cx="5715000" cy="2857680"/>
          </a:xfrm>
          <a:prstGeom prst="rect">
            <a:avLst/>
          </a:prstGeom>
          <a:ln w="0">
            <a:noFill/>
          </a:ln>
        </p:spPr>
      </p:pic>
      <p:pic>
        <p:nvPicPr>
          <p:cNvPr id="50" name="" descr=""/>
          <p:cNvPicPr/>
          <p:nvPr/>
        </p:nvPicPr>
        <p:blipFill>
          <a:blip r:embed="rId4"/>
          <a:stretch/>
        </p:blipFill>
        <p:spPr>
          <a:xfrm>
            <a:off x="0" y="4467240"/>
            <a:ext cx="3186000" cy="23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Uniform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lack h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ed and yellow shirt and jack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lack trouser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7162920" y="1447920"/>
            <a:ext cx="172224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they surviv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raps survived by taking half of the money that miners have and sleeping in t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Why they were hated</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were hated because of the things they do to the diggers and convicts such as taking half of there money, making them pay for there licenses and kicking them out of the goldfiel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hey used for transpor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walked for transp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old did you have to be</a:t>
            </a:r>
            <a:endParaRPr b="0" lang="en-US" sz="4400" spc="-1" strike="noStrike">
              <a:solidFill>
                <a:srgbClr val="000000"/>
              </a:solidFill>
              <a:latin typeface="Arial"/>
            </a:endParaRPr>
          </a:p>
        </p:txBody>
      </p:sp>
      <p:sp>
        <p:nvSpPr>
          <p:cNvPr id="6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or ol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are they called trap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ps are called traps because a man named Joseph decided to call them traps or Joe Jo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660066"/>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ong do they work for</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hours then they s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23:18:38Z</dcterms:created>
  <dc:creator>tristan_valino</dc:creator>
  <dc:description/>
  <dc:language>en-US</dc:language>
  <cp:lastModifiedBy>tristan_valino</cp:lastModifiedBy>
  <dcterms:modified xsi:type="dcterms:W3CDTF">2010-09-13T03:34:14Z</dcterms:modified>
  <cp:revision>13</cp:revision>
  <dc:subject/>
  <dc:title>Traps</dc:title>
</cp:coreProperties>
</file>